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65106"/>
        <c:axId val="61802621"/>
      </c:barChart>
      <c:catAx>
        <c:axId val="30865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2621"/>
        <c:crosses val="autoZero"/>
        <c:auto val="1"/>
        <c:lblAlgn val="ctr"/>
        <c:lblOffset val="100"/>
        <c:noMultiLvlLbl val="0"/>
      </c:catAx>
      <c:valAx>
        <c:axId val="61802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65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D17-5F82-4166-A1AD-E80CAF43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191-FB15-4C38-8AE5-6FC91E2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05F-6B86-4452-B4FD-59F06AA1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40B-A5B3-4D13-BAC8-3FA637C4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3B4-81EF-45FA-84D4-96A83243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D98-4603-4A16-9456-AA96F9F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478-947B-42D7-970F-E61D04B8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7A1-BFEE-47F0-86A7-6986339F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A4F-3505-434D-9394-CC69BF3E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E54-EA48-41DF-BE8B-B465095D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4A1-3DD8-4B04-B785-1455BCC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1D0-CF39-43E4-B949-D871AED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5EE9B-30BA-442B-883C-29E8D376A5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