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94951"/>
        <c:axId val="79722887"/>
      </c:barChart>
      <c:catAx>
        <c:axId val="50994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2887"/>
        <c:crosses val="autoZero"/>
        <c:auto val="1"/>
        <c:lblAlgn val="ctr"/>
        <c:lblOffset val="100"/>
        <c:noMultiLvlLbl val="0"/>
      </c:catAx>
      <c:valAx>
        <c:axId val="7972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94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636-3848-4069-AACC-4984064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358-DF34-462B-8EA7-70E2D01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F6A-2B63-4554-AA2C-DF744960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148-EE1D-409A-B8B5-18EF204E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C0D-7FC4-41DA-82EE-F954003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BE6-3FD6-496F-9576-96D40215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B08-96C6-47E8-BE03-56F59019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8A2-6129-498D-9965-7615906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4DC-B300-4327-B5C4-BB982E7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84E-6F92-4323-AF4D-079DC3D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84C-53B1-4494-926B-111FB65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9D9-4BC8-4ED7-B27D-F331A73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ADB3C-CC36-45E0-BEA5-BAC40DD25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